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9.png" ContentType="image/png"/>
  <Override PartName="/ppt/media/image16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C440-D29C-4BE4-BE2E-9B8457A97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19F0-6D28-41EC-B8DE-E6B13D6F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F771-A896-472B-BF3E-EFD60FD29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AC29-27AE-47F1-8835-D1E234B49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423F-9B43-4989-B025-839544D68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0E2A-6375-4DBD-B779-6049B46F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627B-B0AD-431D-B923-51D354D3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4E98-B1CD-46C8-ADE5-4392805A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5347-5FA5-42F2-8600-AD06859D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2038-FFC6-4F27-B3EE-A7889A81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7840-EDF3-487C-A808-F8D573E8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8670-EE56-4471-83D0-711C7179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FCF9-D489-46F7-A80B-30D12CE6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86DE-DDBA-4A40-B132-11824B5A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C9ED-6F72-4855-A1F8-804B74B6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92FD-32F0-4C89-B5E0-87AA603B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7D35-1345-4D10-BFD3-E99DBCCED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A9F75-9933-49B3-9A63-99241A71F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7FE75-85AE-4022-8049-AA30A400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8262E-34F3-40FB-8230-3859FAAC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1E5DB-CC1E-4518-AEAC-489B409A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7C2CB-2144-4774-A25C-F17D645B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BA00-9E58-4F8B-903C-406CF2FC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8A371-07F1-416A-B21B-CB903336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B163D-F43B-4D84-96E2-BBE8F1FD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CE25F-8BFC-435C-BBE7-2B27061E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46E3A-29BC-45CB-927A-74C2162F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1D6E7-926C-42D6-AAEA-97809FA6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4C107-08A3-4D99-B73E-789D78416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E5D96-8968-4323-9AE4-FB9EF9660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07345-3A38-49BC-956D-D8BAF2151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3DA90-2D48-4470-8FD0-49C72F5E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673B7-38DD-411E-B002-5304C190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C3C4-A391-4FFE-8C7D-C0ABEF4D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F2281-2A5F-49C9-9CBE-8D94350D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4DB09-C59F-4190-88B4-6C049861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26A29-10EF-4A1B-AFB7-64E0FB39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92B9C-74FE-494E-99E7-5CCA568B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6E627-3A44-4444-953E-DD800D78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60D0B-C563-411A-9AC9-F5E8FA28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E0120-24A4-4786-A391-A7DF7542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B2402-72F9-40B5-8C73-D31B87A30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1B4A1-F303-47B6-808D-15EE3C6C6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2FE2F-5125-4E58-BE0D-C676A096A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AB99-B792-4249-A5BC-4996FB1D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6E2E3-6CA0-4B01-BE2B-9C86AAB2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66503-8FAE-410D-951B-321E55A4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409C4-E2DD-4ADD-B3BB-CC3C52F9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A94E3-37A3-4DA2-BFF0-436D23D4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EA75F-043E-4D90-9675-6DBFB14B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5B348-123E-4A82-BBAF-98564A86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3E568-8336-489A-A80A-D2754C14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7C294-8DF8-401A-B7D6-279C5103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B8832-5E17-4396-889D-DD826A83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DCE64-78FB-438C-8F46-429B10AA6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4AFB-D90E-427E-9475-81524DC8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60C66-4CE9-4791-8FD0-030D5B0FF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85C43-EC96-4904-A05A-CA11AE95F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7C0AA-165A-4428-B283-E272DD1C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0DD27-AFE8-49B3-99EB-8593F5C4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1B31D-5357-44DE-9139-62953186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618C2-13F4-44BF-A073-8AF4C141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A6BA4-CCFA-4752-9578-C9C4501C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31205-AC0E-429B-87A5-EBDB9A6F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0A2B4-5B3F-4DDC-8B21-9B511905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FBBB3-F6BF-4C45-88B3-2F8952EB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F338-E5BA-413A-891B-BCD3FA01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83690-87FD-4A21-BE27-41314C19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A7BF7-2236-4461-9CD8-DE32F2671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7AE81-8205-44E5-9560-E909D9446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046A1-0536-4081-8B3F-5EEA4DBF4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B7935-0880-4D7F-A9B0-4A1349C3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F009F-7641-4C4D-B4A2-0B917253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9F1C3-8ADC-4825-96BE-90CB7168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0F63F-AAC9-490E-A5E9-ECF318EC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28CD9-4789-4F3A-938C-8BAA4186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C61F2-CE80-466F-899D-50249226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20E7-7E14-42CB-9DD6-0AC5186C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DD26C-1CDA-4E32-9CED-F9F6B898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CCFD5-9990-49A9-BEF4-F4AED323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FE5FF-F3A9-40E5-9862-F00E444E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B401F-7D76-46EE-9806-BDFBD66D0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76BE8-6E68-4B3C-A11B-37152E922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68DB-99F5-4E02-9D59-01852EC5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6A0D59-33C2-47EB-AF3F-2900205DFC6A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6E6D7C-ED75-4E37-B5C6-00A25446FE97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098792-BB44-421A-9DAA-123A278FEC39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FDB827-0A5A-4193-9B6B-B886F21696DD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FFC015-FA98-4C10-BB25-27C45F956D78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144054-0D29-439D-862D-63F60E9E2572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FACD61-7959-4450-B566-1F4F9FB70F0D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9FF618-914F-4B84-BFB0-498CA7CC5546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2C649B-386D-4CFF-B55E-395657CF11B7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DBF61C-F1DF-4CF1-A1CD-7800C624EBE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DF9433-8CA9-4F95-96AA-6847D9CC8AAA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53CF9A-388F-46F0-A934-F731C158F46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9C896B-26AF-4AE4-BD84-D1401268DAFF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B26682-22F5-4175-8615-0F878A75E6D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2"/>
          <a:stretch/>
        </p:blipFill>
        <p:spPr>
          <a:xfrm>
            <a:off x="682560" y="2036880"/>
            <a:ext cx="8083440" cy="29988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images.jpg"/>
          <p:cNvPicPr/>
          <p:nvPr/>
        </p:nvPicPr>
        <p:blipFill>
          <a:blip r:embed="rId3"/>
          <a:stretch/>
        </p:blipFill>
        <p:spPr>
          <a:xfrm>
            <a:off x="1523880" y="3429000"/>
            <a:ext cx="2590920" cy="25779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images1.jpg"/>
          <p:cNvPicPr/>
          <p:nvPr/>
        </p:nvPicPr>
        <p:blipFill>
          <a:blip r:embed="rId4"/>
          <a:stretch/>
        </p:blipFill>
        <p:spPr>
          <a:xfrm>
            <a:off x="5029200" y="314964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40796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182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enry Cla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Kentuck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avored national bank, protective tariffs, nationwide internal improvements (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The American System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drew Jacks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Tennesse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eroism at Battle of New Orlean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8" name="Picture 3" descr="images2.jpg"/>
          <p:cNvPicPr/>
          <p:nvPr/>
        </p:nvPicPr>
        <p:blipFill>
          <a:blip r:embed="rId2"/>
          <a:stretch/>
        </p:blipFill>
        <p:spPr>
          <a:xfrm>
            <a:off x="6289560" y="3747960"/>
            <a:ext cx="2854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lliam Crawford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the South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tates’ rights, strict interpretation of cons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John Quincy Adam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New Englan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Nationwide internal improvements, NO protective tariff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1" name="Picture 3" descr="images3.jpg"/>
          <p:cNvPicPr/>
          <p:nvPr/>
        </p:nvPicPr>
        <p:blipFill>
          <a:blip r:embed="rId2"/>
          <a:stretch/>
        </p:blipFill>
        <p:spPr>
          <a:xfrm>
            <a:off x="2057400" y="1774800"/>
            <a:ext cx="464832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77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770" fill="hold"/>
                                        <p:tgtEl>
                                          <p:spTgt spid="3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obody wins a majority in the Electoral Colleg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liminate lowest candidate (Clay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ouse of Representatives elects presid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4" name="Picture 3" descr="images4.jpg"/>
          <p:cNvPicPr/>
          <p:nvPr/>
        </p:nvPicPr>
        <p:blipFill>
          <a:blip r:embed="rId2"/>
          <a:stretch/>
        </p:blipFill>
        <p:spPr>
          <a:xfrm>
            <a:off x="2286000" y="3809880"/>
            <a:ext cx="4572000" cy="29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3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618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enry Clay (Speaker of the House) supports John Quincy Adam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Voters are swayed toward Adam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dams wins, appoints Clay as Sec. of Stat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Jackson’s supporters cry foul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7" name="Content Placeholder 16" descr="images5.jpg"/>
          <p:cNvPicPr/>
          <p:nvPr/>
        </p:nvPicPr>
        <p:blipFill>
          <a:blip r:embed="rId2"/>
          <a:srcRect l="0" t="-25048" r="0" b="-25048"/>
          <a:stretch/>
        </p:blipFill>
        <p:spPr>
          <a:xfrm>
            <a:off x="4495680" y="1163520"/>
            <a:ext cx="457200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61800"/>
          </a:xfrm>
          <a:prstGeom prst="rect">
            <a:avLst/>
          </a:prstGeom>
          <a:ln w="0">
            <a:noFill/>
          </a:ln>
        </p:spPr>
      </p:pic>
      <p:pic>
        <p:nvPicPr>
          <p:cNvPr id="319" name="Content Placeholder 2" descr=""/>
          <p:cNvPicPr/>
          <p:nvPr/>
        </p:nvPicPr>
        <p:blipFill>
          <a:blip r:embed="rId2"/>
          <a:stretch/>
        </p:blipFill>
        <p:spPr>
          <a:xfrm>
            <a:off x="2468520" y="4492800"/>
            <a:ext cx="4054680" cy="1584000"/>
          </a:xfrm>
          <a:prstGeom prst="rect">
            <a:avLst/>
          </a:prstGeom>
          <a:ln w="0">
            <a:noFill/>
          </a:ln>
        </p:spPr>
      </p:pic>
      <p:pic>
        <p:nvPicPr>
          <p:cNvPr id="320" name="Content Placeholder 4" descr="images6.jpg"/>
          <p:cNvPicPr/>
          <p:nvPr/>
        </p:nvPicPr>
        <p:blipFill>
          <a:blip r:embed="rId3"/>
          <a:srcRect l="0" t="-73468" r="0" b="-73468"/>
          <a:stretch/>
        </p:blipFill>
        <p:spPr>
          <a:xfrm>
            <a:off x="1905120" y="0"/>
            <a:ext cx="5029200" cy="57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618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udslinging campaig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Jackson says Adams is a snob, a gambler, and is untrustworth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Content Placeholder 4" descr="images7.jpg"/>
          <p:cNvPicPr/>
          <p:nvPr/>
        </p:nvPicPr>
        <p:blipFill>
          <a:blip r:embed="rId2"/>
          <a:srcRect l="0" t="-22773" r="0" b="-22773"/>
          <a:stretch/>
        </p:blipFill>
        <p:spPr>
          <a:xfrm>
            <a:off x="4648320" y="1773360"/>
            <a:ext cx="4038480" cy="46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618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2895120" y="1904760"/>
            <a:ext cx="403884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JACKSON WINS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4" descr="images8.jpg"/>
          <p:cNvPicPr/>
          <p:nvPr/>
        </p:nvPicPr>
        <p:blipFill>
          <a:blip r:embed="rId2"/>
          <a:stretch/>
        </p:blipFill>
        <p:spPr>
          <a:xfrm>
            <a:off x="2743200" y="3162240"/>
            <a:ext cx="365760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13:00:07Z</dcterms:created>
  <dc:creator>Moffa, David</dc:creator>
  <dc:description/>
  <dc:language>en-US</dc:language>
  <cp:lastModifiedBy>Moffa, David</cp:lastModifiedBy>
  <dcterms:modified xsi:type="dcterms:W3CDTF">2011-02-03T15:41:03Z</dcterms:modified>
  <cp:revision>27</cp:revision>
  <dc:subject/>
  <dc:title>The Elections of 1824 and 1828</dc:title>
</cp:coreProperties>
</file>